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870-E638-4DF6-924D-F5D8AAC6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BB2-8577-4B9F-9B3B-08DB359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0F2-A38B-4DDE-BA9E-2D454D42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A6-A919-4520-9765-F5E0B74B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739B-9554-4373-853C-8004888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DA2-1BFD-4314-BB59-52B8A1C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275-CF60-48F3-806D-79FE3651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C7F3-EA2E-495C-B65C-16F6F6E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F96-D2F1-445D-9256-A8B6665C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D92-888A-41F5-926A-D374AEC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833F-0C59-4FA2-8F2C-200B8F8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40E-C12B-41B8-A17B-8DD0272A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7BBC-3CEC-4300-8081-5AB3214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C0E-E6D1-4A2F-8CE6-2954BEC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A01-C379-4864-B735-A424AFD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4EB-465F-42C0-B3E0-9822F146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A59-49F6-4D7C-A2D2-F42759C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F489-5074-4C89-80CC-C1ECE95D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F601-0010-4758-90D6-75C125C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FD09-367E-46F4-B668-BF6DF697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8BE6-E94E-449A-A0CF-C3CC1E1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2B1F-5BB3-4338-BDFD-4F387C5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17A-CBD0-4773-AE3A-3103129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E73C-124C-4D28-BB1A-EDC42DAF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034B-5A42-4992-B245-16B2C915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449B-4E3E-4164-A1B3-3F17A59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F7EB-20E5-4B44-B3CA-9C717EE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5479-0510-4947-AE72-5243971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3151-AFC0-4FCC-8E56-4F6A2FCE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1130-0BFD-4405-A450-59C72614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D207-7BC4-45FD-A5B3-BFFA5297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697F-014C-4C07-97FA-FDAD4FA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2FC1-8337-4849-ABBA-28977E3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336-391C-4DA4-8923-E61FF77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95D2-DD02-4A5F-AA72-B9E6A6C9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FF3A-A520-4964-A8E5-0D7AE67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868E-0E5E-4846-B854-ABED41B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F81E-5802-4A6E-A079-BDEDC68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747D-699B-412B-90E4-4DE12F1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69B6-12B6-42B8-8516-BAE73665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A496-C298-4614-8FEB-09A99914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5AA9-FD48-4174-9406-C214BD4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63FB-CA18-4BF5-B424-D06AF3EA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83BF-EF2B-44C8-AF0E-60E3FA93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D82-5538-4D67-85F3-16EEECE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F56C-1C6E-4205-AD4F-BDB9248A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7F70-4072-4722-9736-C10EB1E0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6301-7C88-4546-A68D-31092F0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E5A0-B62A-4758-A879-4DC42778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525F-6B2C-4B25-B052-AB2DF7F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D262-4B4A-4B20-8393-0AAF5AD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43AA-E86C-4A50-A814-D962F2D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8D94-AE1B-4908-BEF8-7F03A2D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5E59-9503-49C6-B7DC-6126EB4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211B-98C9-491F-8541-8FB750B4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093-041D-47E5-A65D-2A20287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EF02-C25C-4B32-A29A-427B50F7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8E8D-13AE-493C-BE86-C9B4686F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E817-6AD0-4806-967A-DC178B8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D061-207E-420E-9E77-DDA589F6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01B3-CD0F-4376-B789-BABFD5CF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EF2F-0154-41FC-B7A6-87796A7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7508-A5E3-4B78-AF6A-36B71665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F9EA-D896-4EAC-82E4-3029A4C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0D77C-1B9D-4E62-9862-B984CB7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59FD-00AA-408E-B57F-DE591D8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F05-7E41-4421-BE8D-E2257D3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3884-013D-4A0C-B13D-A1B34CC7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2232-3D6D-4C4F-83A4-BA2F5B78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94A2-239D-46E8-8B4E-F5A3308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F794-7BDB-4799-A8D4-749B3BBE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EAA7-5040-43C1-B888-5BDF844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87C0-8E57-44DC-859E-7D8EBCD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A6FD-E074-4F97-93ED-52DAC67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C786-1649-4880-BB1D-46D8E249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47E32-6A5B-4C11-BA1C-5B0BB3B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46D5-6E21-4972-A88C-A216105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024-B21E-455C-9240-05D6265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E447-0EFF-4FCF-8351-02EF98B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B6E9-3FDF-4517-8122-86D1EC6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23F5-62FC-4DF4-BA36-FA464FB2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7A18-B15A-4955-8C32-2810CF15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880D-6D22-4812-86C1-F1CEBF4B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98D-2C17-4F44-AD8C-A88E168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500-27D7-4EC1-8C64-84791967B1F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A41-9A22-4154-B0A3-18CD800981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98B-628F-4A35-9975-479112FE9C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432-45F5-42D6-84DC-8F92E23087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425-86DF-4CFD-B117-A52A65E5C3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7C7-30D6-412D-AAEE-BFEBEB21E7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185-D7B3-4268-AAD7-4414A46A46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T-COLD 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-ACTU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0e04"/>
                </a:solidFill>
                <a:latin typeface="Gill Sans MT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550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20e04"/>
                </a:solidFill>
                <a:latin typeface="Gill Sans MT"/>
              </a:rPr>
              <a:t>Determinar la distribución de temperatura en el dispositivo, así como su desplazamiento máxi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5 CuadroTexto"/>
          <p:cNvSpPr/>
          <p:nvPr/>
        </p:nvSpPr>
        <p:spPr>
          <a:xfrm>
            <a:off x="1371600" y="611496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ÁLISIS TERMO-ESTRUCTURAL DEL MICROACTUADOR TÉRMICO HOT-COL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lías Zarco, Yesid Mora, Alba Ávil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</a:rPr>
              <a:t>Centro de Microelectrónica  Universidad de los Andes (CMUA). Bogotá, Colombi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981080" y="2895480"/>
          <a:ext cx="625968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62596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447920" y="1676520"/>
          <a:ext cx="7391160" cy="3429000"/>
        </p:xfrm>
        <a:graphic>
          <a:graphicData uri="http://schemas.openxmlformats.org/drawingml/2006/table">
            <a:tbl>
              <a:tblPr/>
              <a:tblGrid>
                <a:gridCol w="4257720"/>
                <a:gridCol w="1373040"/>
                <a:gridCol w="1760400"/>
              </a:tblGrid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Propiedades del Polisili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Unidades μM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ividad térmica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e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W. μm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or específico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e1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J.kg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e-1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( μm)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iciente de expansión térmica  α</a:t>
                      </a:r>
                      <a:r>
                        <a:rPr b="0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  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ALP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lo de Young  E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e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 de poisson PRX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stividad eléctrica RSVX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e-1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.ohm/μ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3:36:18Z</dcterms:created>
  <dc:creator> Ing. Yesid Mora Sierra</dc:creator>
  <dc:description/>
  <dc:language>en-US</dc:language>
  <cp:lastModifiedBy> Ing. Yesid Mora Sierra</cp:lastModifiedBy>
  <dcterms:modified xsi:type="dcterms:W3CDTF">2007-07-05T13:13:38Z</dcterms:modified>
  <cp:revision>14</cp:revision>
  <dc:subject/>
  <dc:title>Diapositiva 1</dc:title>
</cp:coreProperties>
</file>