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645-8905-4DC1-A3C6-B48E5A2D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ADA-699B-41C3-855C-DC8CE7BA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787-0DEE-4147-8375-0D462854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37D-B537-4963-94C4-5D670C87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9E6-2741-434B-A5D6-8906F587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70D-CA99-4D8A-8BAA-B4983C47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64C3-4C4B-4B0E-B7BF-77EA014F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B7A5-21B7-440F-8218-203C7C4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ED47-B153-42B7-8D76-B42DC9EB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5F17-6A8E-4613-91AE-FE19281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059-5029-446B-AA2D-AD1B354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7F7-5EA1-417B-BBA9-F7711B4C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A333-0DEC-4D17-92E1-ED5B70B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22CA-D211-4727-B6C3-F8C34A3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137-DCEA-46E6-9D5F-206BFF8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D4AF-CED6-4DA6-A6B2-58F5B42F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BF4-B455-4F01-B1A5-13B88EBB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4B03-965F-4621-A96F-B137F18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6C5F-2100-4889-B9F2-67FBF81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F5E2-249B-4C28-8D12-8A24607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367E-1422-445C-AA0D-FDFCD61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231B-1C98-4B9B-818E-974887F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CB4-5DE4-407D-8A4D-0CF05CC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CA85-8577-4264-8557-15A0577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C417-5AF0-45EB-A8CD-840B83DF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D7C2-8A33-4B3D-A586-536539AD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5A43-43A1-4CEF-82BA-17AFB8B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9B96-B6A7-4B6F-9DD3-69D7EF9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82BA-3455-4470-95ED-14C37418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EC02-52E9-4EB1-BB66-19C924EE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62AF-6286-42C5-AAD3-EE978F97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377C-1C3A-4A3E-94F8-BC2CF06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D17E-3B48-44A7-812D-D07337FE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4F0-4765-48B2-B17E-78F9DD1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3308-37D4-45C4-AA82-12E5CD01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0082-2945-493E-89D5-5712CEF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F97F-5D34-4F01-9839-C3AEDC2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928F-86E5-422F-A767-AF1536C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B44E-B5E8-41EA-944F-53F2262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913CA-0338-455C-B629-F416F63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1D6B-2EFE-44AB-B4EB-4A3E431E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F131-C691-42E2-996F-7AE40FB8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9B0B-4A08-4200-B934-A11A02E3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4EE6-A05F-4F8C-A224-4BCDFDCF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CC8-5D7F-49D5-A46A-41A9DEEA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E0DD-397B-4B78-8F87-0D48C8D6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8794-B567-4BFD-9F10-4E65A59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F13F-3F23-4DF6-85CB-4C6CA26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0E77-0E57-4291-A9C9-D1F18C3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A8A0-41D3-43DE-ACDC-E0280CA3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98FE-3AF6-4C2E-875F-488509D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C6F2-E063-4AF1-8E8A-CBB2E8D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F0F1-D4AC-40C6-9028-BFDE49E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1FE1-145A-4055-BE31-9CB65062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FCD7-1DE2-496A-A770-51BA17AC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0FF-65F4-48CB-8463-6C64CA04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BDB2-BE5A-4C6A-B51B-EF6FA713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AC2C-D54E-4EAD-890C-25D89C8B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376C-5E35-43E1-814D-C3272C4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EE77-D9A0-4970-AD30-AEEE016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CEF9-831D-4092-AD78-548AF369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9750-7D06-417F-871F-FF55841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C372-FFF8-4E96-8DE0-CDEF07D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F16F-48EF-466B-8EC0-202A25F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330A-9729-440A-B798-10B2A35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698A-D438-4C27-905E-A86ED00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F98-BB3F-41BA-B512-E50E3BB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46AAD-AF44-4554-B774-D060EA2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3A08-49CE-41D5-BC3B-91E1C5BA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FA00-9C77-4714-8C5C-B334CA5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C0A6-34CC-490D-98C1-7C45C9C0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E40C1-FDC6-48B5-B327-0B3CC93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6C122-FE40-4387-B911-B183C284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9FFA-55C2-4542-8A24-010265AA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727E-61D8-4960-8A0F-55328AD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2A8D-E466-48F6-9B65-84C9FED1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E566-7F28-4787-B7CB-C801BE2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447-2439-462A-84EB-6EBAA10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7545-C26A-4C86-849F-CA38BD17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8FCF-8A12-41BB-80C2-0F22490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5D317-4899-467E-86F6-510714D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CF05-0C29-416C-8B18-489D8057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C76A-9CDB-4428-9E4C-38AD68AF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B99-38C6-4926-B106-CD5FE56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4CE9-8E11-4AD3-91A5-5F8119375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841B-B4F1-45EA-9548-3D3FB83A9F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59C-FB9F-4DEF-A9B5-75FC0DC373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C127-7A26-4113-B340-A1C5389CBC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2AD-D3F6-4AC6-9100-D73E010C7F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93C-91D0-4AAF-BB31-FCD9B2FB19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629-6C74-420C-A9A2-730DCE3495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T-COLD THERMAL MICRO-ACTU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0e04"/>
                </a:solidFill>
                <a:latin typeface="Gill Sans MT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550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20e04"/>
                </a:solidFill>
                <a:latin typeface="Gill Sans MT"/>
              </a:rPr>
              <a:t>Calcular el desplazamiento máximo del micro-Actuador, así como el perfil de temperatura a lo largo del mis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0" name="Object 5"/>
          <p:cNvGraphicFramePr/>
          <p:nvPr/>
        </p:nvGraphicFramePr>
        <p:xfrm>
          <a:off x="2498760" y="2819520"/>
          <a:ext cx="550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2819520"/>
                    <a:ext cx="550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2"/>
          <p:cNvSpPr/>
          <p:nvPr/>
        </p:nvSpPr>
        <p:spPr>
          <a:xfrm>
            <a:off x="1371600" y="6095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NÁLISIS TERMO-ESTRUCTURAL DEL MICROACTUADOR TÉRMICO HOT-COLD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LIAS ZARCO, YESID MORA, ALBA AVILA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es-MX" sz="1000" spc="-1" strike="noStrike">
                <a:solidFill>
                  <a:srgbClr val="000000"/>
                </a:solidFill>
                <a:latin typeface="Gill Sans MT"/>
              </a:rPr>
              <a:t>entro de Microelectrónica  Universidad de los Andes (CMUA). Bogotá, Colombia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536840" y="1920960"/>
          <a:ext cx="7149960" cy="3413160"/>
        </p:xfrm>
        <a:graphic>
          <a:graphicData uri="http://schemas.openxmlformats.org/drawingml/2006/table">
            <a:tbl>
              <a:tblPr/>
              <a:tblGrid>
                <a:gridCol w="4267080"/>
                <a:gridCol w="1127160"/>
                <a:gridCol w="1755720"/>
              </a:tblGrid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Propiedades del Polisili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700" spc="-1" strike="noStrike">
                          <a:solidFill>
                            <a:srgbClr val="e7dec9"/>
                          </a:solidFill>
                          <a:latin typeface="Times New Roman"/>
                          <a:ea typeface="Times New Roman"/>
                        </a:rPr>
                        <a:t>Unidades μM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ividad térmica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e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W. μm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or específico </a:t>
                      </a:r>
                      <a:r>
                        <a:rPr b="0" i="1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e1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J.kg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e-1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( μm)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iciente de expansión térmica  α</a:t>
                      </a:r>
                      <a:r>
                        <a:rPr b="0" lang="es-CO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  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ALP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CO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lo de Young  E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e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 de poisson PRX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stividad eléctrica RSVX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e-1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.ohm/μ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0:34:20Z</dcterms:created>
  <dc:creator> Ing. Yesid Mora Sierra</dc:creator>
  <dc:description/>
  <dc:language>en-US</dc:language>
  <cp:lastModifiedBy> Ing. Yesid Mora Sierra</cp:lastModifiedBy>
  <dcterms:modified xsi:type="dcterms:W3CDTF">2007-07-05T13:12:51Z</dcterms:modified>
  <cp:revision>8</cp:revision>
  <dc:subject/>
  <dc:title>HOT-COLD THERMAL MICRO-ACTUATOR</dc:title>
</cp:coreProperties>
</file>