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3F5-99F5-49D6-8DA9-5ED28206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61F-DBDB-4775-9260-0CED79BD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FC7-C0CF-47E6-927C-7514344D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B0A-130F-463F-A9AC-6B27CDD3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717E-5DA0-4BE8-9A8C-61C4DACA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F2B0-5408-4173-8D29-B477EA9D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A0CF-B46D-4334-B334-1AAD70E6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092C-C712-42C9-809F-E334E8AF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4DF1-4F59-453B-BD4E-F6C819DE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CBFD-CA51-4CB3-A67F-6634EF5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0D51-D99B-4980-9B0D-38DD1D9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494-E4D8-4DE6-BECB-3DE10F9B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844A-25C9-4A37-8EC6-A96DF1A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6003-70D4-414C-9266-4D35DD9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9426-6AE2-41A5-97B2-D72DD482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7B62-A8D8-408B-AE34-C785AF22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36DC-B68D-468A-B583-A838A61E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4761-92E6-4315-AC4B-65F60A8C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5B06-A7B7-41F1-9D64-75A442CB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0155-BC06-4FBC-AA86-9AFE6B93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1074-08F6-4CAC-B613-763980DA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B20FD-767C-4327-A868-BC47D412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BB4-A490-49E8-A8ED-8D364D5B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1F3D-0B80-4F08-90E4-361F4DED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3A42-B148-4088-ABE3-C6D3E4F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3005-87E8-406C-B9BE-1254528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0F36-D8C4-4685-A4DA-EAAC9F9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66A8-F27C-42FA-B77A-255ED4CD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A5CC6-08EB-4E51-A7F3-DD5C365D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4519-3710-401B-8D0B-BEBA5088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3ECF-AD42-4372-9E07-9C0B433B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F7BF-2B34-40E9-B86E-D398C27A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CE666-C134-4988-A576-BD653B36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276-E786-45B1-A499-C404A41C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E57F-4AA4-4B61-AFE0-1F34BE53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24AA-639B-411D-82C9-CC5F9A86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CEC2-0018-4BBD-9B7B-7173CB30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1D9ED-D4DE-4CCF-8C7F-8000ED41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B4F5-83D3-47E1-85FF-F69908FF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72F0-5EE2-482D-807E-E5649F0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D62A7-42B2-441A-AB7E-67AE1A73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5CF1-45A0-4E02-8B60-FFC38D56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E2E6E-3DE1-4425-A630-4CB99C62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7057-DB5B-4BE8-8263-64B5E1F2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D73-1A52-4EAA-86B2-70AAB8C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02459-6F2A-4008-BE51-7F3BEFAC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8FDF-BC25-45D2-A7AE-0BF8DC58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517B3-8CF8-4246-AC37-861576F3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33B4B-8D40-4B63-A672-9A28AFA2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09FA-016E-4C58-9174-52CB97B2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FEA0-F737-4E41-B65A-84838B50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53707-B580-4AF9-BC74-0F124596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7BBE-E7B4-447A-8FA0-DD353BF2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9E33-FC15-4C2E-8C43-E3FA07AD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2CCC-984E-4F9B-AB82-1E2D79EF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121-6F83-4B92-8532-7370BD6F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6EFC9-25FD-4D64-B690-EF3E452A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63F6E-01C4-43FF-B7EA-B0FE97B2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F04FE-3C9C-46F4-8771-1FA877FE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5CCD3-7A1D-4012-BD16-03F81C3D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2611-4022-4F19-B5D1-CA8DFE40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01E62-BBA4-4A81-A573-1BFB05C2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EAF8-47B8-4726-B429-033AD50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AA33D-4A44-421E-9E8D-2E5A5826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F14F7-2ECE-4D34-8F79-B6AAE86D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550F4-4C0A-48E2-9721-84718E15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585-AA0C-4B71-8363-0E44D986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39535-25C5-4A28-AB99-217249BE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C995-4758-4603-9889-22101A6E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7014E-1EF8-4229-AB8B-04FC5144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3891-2EB1-4EF6-BC83-09CCEA05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75BD-BEA9-48E0-855F-5E901CCC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F7805-ADAA-4CA7-B4B9-3BE36502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EC796-451F-4182-B7C4-D531D89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9BBBE-651F-42F9-B4B2-1EF66299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F224B-E665-4B81-8340-E79FBAC4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7C5B-5CBA-4862-A30C-E5C0181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9AB-19EE-4277-9B58-3D2B6B9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C7172-E7E3-4868-9782-706A1D0B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C263D-D39C-4188-9FE6-2534ED56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02915-A090-450E-BDD6-B1F14BB3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2298E-8A1A-40EE-8A6F-17675D7B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002F3-88F7-4740-AC39-6C66F1FB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C30-AA75-4364-B82B-627DD297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7E30-ED4F-4BBE-8E01-D04DEF51FF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AA7F-A052-4D36-83E8-2A0FE31C064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507A-A508-40EF-9233-70DF6A46135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15BD-933D-4250-B11A-C964730031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16D8-CCBB-46F9-9543-2831C32EE74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9E3B-2C6C-4B72-8C36-7D843CCE26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8117-5F8F-4EFD-9253-26077ABC9EC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T-COLD THERMAL MICRO-ACTU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20e04"/>
                </a:solidFill>
                <a:latin typeface="Gill Sans MT"/>
              </a:rPr>
              <a:t>Objetiv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550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20e04"/>
                </a:solidFill>
                <a:latin typeface="Gill Sans MT"/>
              </a:rPr>
              <a:t>Calcular el desplazamiento máximo del micro-Actuador, así como el perfil de temperatura a lo largo del mis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0" name="Object 5"/>
          <p:cNvGraphicFramePr/>
          <p:nvPr/>
        </p:nvGraphicFramePr>
        <p:xfrm>
          <a:off x="2498760" y="2819520"/>
          <a:ext cx="5502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2819520"/>
                    <a:ext cx="550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2"/>
          <p:cNvSpPr/>
          <p:nvPr/>
        </p:nvSpPr>
        <p:spPr>
          <a:xfrm>
            <a:off x="1371600" y="60958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NÁLISIS TERMO-ESTRUCTURAL DEL MICROACTUADOR TÉRMICO HOT-COLD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LIAS ZARCO, YESID MORA, ALBA AVILA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es-MX" sz="1000" spc="-1" strike="noStrike">
                <a:solidFill>
                  <a:srgbClr val="000000"/>
                </a:solidFill>
                <a:latin typeface="Gill Sans MT"/>
              </a:rPr>
              <a:t>entro de Microelectrónica  Universidad de los Andes (CMUA). Bogotá, Colombia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536840" y="1920960"/>
          <a:ext cx="7149960" cy="3413160"/>
        </p:xfrm>
        <a:graphic>
          <a:graphicData uri="http://schemas.openxmlformats.org/drawingml/2006/table">
            <a:tbl>
              <a:tblPr/>
              <a:tblGrid>
                <a:gridCol w="4267080"/>
                <a:gridCol w="1127160"/>
                <a:gridCol w="1755720"/>
              </a:tblGrid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Propiedades del Polisilic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Unidades μM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ividad térmica </a:t>
                      </a:r>
                      <a:r>
                        <a:rPr b="0" i="1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e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W. μm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or específico </a:t>
                      </a:r>
                      <a:r>
                        <a:rPr b="0" i="1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i="1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e1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J.kg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dad 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e-18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( μm)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iciente de expansión térmica  α</a:t>
                      </a:r>
                      <a:r>
                        <a:rPr b="0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  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ALP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e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ulo de Young  E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e3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 de poisson PRX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stividad eléctrica RSVX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3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e-1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.ohm/μ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0:34:20Z</dcterms:created>
  <dc:creator> Ing. Yesid Mora Sierra</dc:creator>
  <dc:description/>
  <dc:language>en-US</dc:language>
  <cp:lastModifiedBy> Ing. Yesid Mora Sierra</cp:lastModifiedBy>
  <dcterms:modified xsi:type="dcterms:W3CDTF">2007-07-05T13:12:51Z</dcterms:modified>
  <cp:revision>8</cp:revision>
  <dc:subject/>
  <dc:title>HOT-COLD THERMAL MICRO-ACTUATOR</dc:title>
</cp:coreProperties>
</file>