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7B4-68EC-4E93-9988-964FC94A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F16-A886-4255-A29D-9D97757A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F0F-2CBB-4098-829B-F7C8528F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F7A-56F5-4DCB-81FE-550BA2F3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739E-B991-40D6-9BA4-2CD4587C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17F7-4D16-4DD4-9D55-0184E6AF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D917-1845-41E7-B49C-D54D1B49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05CC-A835-44FD-9774-48E4CD13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9791-77D5-487B-8B12-56F00218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CCE5-7379-4955-B515-7C921712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04D4-C618-4333-A448-08BC9CD9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FE7-BC63-49F9-9E7C-E361BA0F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2FD2-F7C1-4651-B934-F48B84F9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64F8-9715-473C-97EE-4899D46C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8F3A-7FD8-489D-AABF-8E908820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A5F6-80FD-4112-8CA9-A43C7220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BBB7-A2F8-4E75-9043-CF0CD43E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53C9-D48C-4A2D-BE69-745CBCD8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55A3-B951-4BE7-A2F3-5A816401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7883-3B75-4449-8933-B4C0716F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6A2D-C042-4ABE-A29B-EB402E62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3965-70E6-4002-8CEE-D55B3B8D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075-981B-4D13-8DCB-16D7AEA4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E330-462A-42DD-82FB-2CC332F2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9CB89-3FCA-4E8F-B8B9-F97CF6BB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F169-F090-4D49-8250-AD73DDC9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4BF3F-FF41-46B4-BF2B-E040CA0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7B15-2CFD-4938-9D9F-2A766FF4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51D5-9DA0-4F40-95FC-83095D15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691E-6CD2-4D45-B31A-A56010C3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D8E2-811B-4E67-9178-D23A27EB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E367A-670B-4A95-8AC2-980DF2F1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5CC45-B664-42C2-8935-2A261216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D4B-9935-4895-9144-F5ECE534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A3642-04C7-41A4-8EA3-8910EF12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9F11-0E9F-47CE-BBD6-8FE577FA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F43A-ACB0-42B0-B730-85A065D1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09207-0FB7-4D54-BF03-D4D4E624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7211F-F66E-451C-8CEF-5E30105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30C35-6F78-4240-9D81-C8EE62A6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6F09-DAF6-40BF-8725-6CA2D17A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7B4E-DE71-44D7-A390-9A1823CD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9DEB3-DDF7-47D7-AA91-5181CF68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7C12D-A2AB-40E5-8519-8F775B54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F0D-66D7-460E-8355-1A71AB0F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B86E0-8907-4C89-B823-86322A76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0BD95-1402-4A7F-9E06-7DC64AF7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F1B91-C474-40E5-A5D1-B7409C46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4C7D9-958D-4051-A7CA-FFBAB119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39B31-A0DF-47E6-8412-D6A88870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2CA10-BF6D-4A38-BED8-9BBAE0F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289B1-CAB2-4E4E-BEE4-C0B27AB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1A3D0-EF59-4E98-A780-B69C5A98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F3DE-3138-4963-BA5F-427449CF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3984E-D719-4FAD-BD7F-B721BB90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F5D-6F1A-43F9-BA33-09A6FDBB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C119E-55AB-4C6E-9052-4EFFA6D5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FA8CA-9E6F-4938-B823-FC8EC385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A69C-54AD-4349-8D5F-345DC21C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121B8-D61E-4CA6-8C62-392D84D0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74574-7FC2-4B54-A702-4BA2C8AA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9622C-0C5D-4D62-9D59-D027D9B9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BB741-62F6-4C84-BE7A-B6B6D74C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B6A1-1EDF-40D8-987C-891D1E91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C3304-E67F-4075-838F-410EBBA9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CABB6-3DA8-4470-81FE-6C213931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1C1-F185-4EB2-8260-AF5A824B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F4656-4A15-4271-8D6D-5E4A143B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0E4DF-9268-47CF-87F9-2358AA73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01B9C-E42A-4D6F-A774-F3D5D9FF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26F77-5BC3-44FE-A97C-8599E484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E40A8-C69B-4786-BA25-07753BA1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C10D3-DDFE-46D6-BA2A-E53C46FA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5744-C6B9-4713-93A2-5A4D91EC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7803E-6958-498F-BE9C-6FF93217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B9506-F1FB-4C54-BC30-22962822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17653-D22D-493B-B362-C0CF14F0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8DB-69EC-4CFB-86FD-2DED52CB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7CC21-38EC-47D2-BDA7-6CC61A4A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554D0-362F-47AB-A4E4-F0A491F9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FE17E-E9D3-4710-91FE-282379D2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A6BEA-B75C-4CC9-A258-5AB612C1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831A3-DD04-4AF1-9821-4AB876A4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955-1895-4F69-AC94-9539C1F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3626-E35D-4EF4-BF1A-06873EAA070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5E5A-E30D-4E3B-AD4A-0BF0386D23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C6E5-1541-45F8-AF82-48F55087D10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4616-74E4-4CC8-911F-97DA7B1043F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76BD-79E0-4E6F-AA4C-56F628EEAD1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800B-B9D6-4DE1-A3FB-A6306B47F3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5913-EE8B-4C9B-81D8-703917FA183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T-COLD </a:t>
            </a: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CRO-ACTU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20e04"/>
                </a:solidFill>
                <a:latin typeface="Gill Sans MT"/>
              </a:rPr>
              <a:t>Objetiv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550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20e04"/>
                </a:solidFill>
                <a:latin typeface="Gill Sans MT"/>
              </a:rPr>
              <a:t>Determinar la distribución de temperatura en el dispositivo, así como su desplazamiento máxim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5 CuadroTexto"/>
          <p:cNvSpPr/>
          <p:nvPr/>
        </p:nvSpPr>
        <p:spPr>
          <a:xfrm>
            <a:off x="1371600" y="611496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NÁLISIS TERMO-ESTRUCTURAL DEL MICROACTUADOR TÉRMICO HOT-COL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lías Zarco, Yesid Mora, Alba Ávila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ill Sans MT"/>
              </a:rPr>
              <a:t>Centro de Microelectrónica  Universidad de los Andes (CMUA). Bogotá, Colombia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1" name="Object 5"/>
          <p:cNvGraphicFramePr/>
          <p:nvPr/>
        </p:nvGraphicFramePr>
        <p:xfrm>
          <a:off x="1981080" y="2895480"/>
          <a:ext cx="625968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625968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447920" y="1676520"/>
          <a:ext cx="7391160" cy="3429000"/>
        </p:xfrm>
        <a:graphic>
          <a:graphicData uri="http://schemas.openxmlformats.org/drawingml/2006/table">
            <a:tbl>
              <a:tblPr/>
              <a:tblGrid>
                <a:gridCol w="4257720"/>
                <a:gridCol w="1373040"/>
                <a:gridCol w="1760400"/>
              </a:tblGrid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Propiedades del Polisilic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Unidades μM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uctividad térmica </a:t>
                      </a:r>
                      <a:r>
                        <a:rPr b="0" i="1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i="1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e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W. μm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or específico </a:t>
                      </a:r>
                      <a:r>
                        <a:rPr b="0" i="1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i="1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e1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J.kg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dad 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0e-18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( μm)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iciente de expansión térmica  α</a:t>
                      </a:r>
                      <a:r>
                        <a:rPr b="0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   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ALP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e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ulo de Young  E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e3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 de poisson PRX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stividad eléctrica RSVX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3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e-11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.ohm/μ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23:36:18Z</dcterms:created>
  <dc:creator> Ing. Yesid Mora Sierra</dc:creator>
  <dc:description/>
  <dc:language>en-US</dc:language>
  <cp:lastModifiedBy> Ing. Yesid Mora Sierra</cp:lastModifiedBy>
  <dcterms:modified xsi:type="dcterms:W3CDTF">2007-07-05T13:13:38Z</dcterms:modified>
  <cp:revision>14</cp:revision>
  <dc:subject/>
  <dc:title>Diapositiva 1</dc:title>
</cp:coreProperties>
</file>